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89AC-C74D-4412-9B0E-91C4C389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20E2-1B4B-452E-9E2D-CF4B8AB1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10D5-E390-4978-B467-47B048B6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1535-31AB-47E6-A176-0D8F6C556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3F61-BCAA-410D-BBDC-7103AFDE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B49C-AB8C-4AA0-A7B6-B02C7EA4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AE8B-F0A1-4658-8180-79197DDE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063E-B130-4CE0-91C6-F432D3A6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B73A-E94C-47A9-9B77-C6597541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4D30-20F2-42CE-BB0B-F2A5DCC8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C7CA-AF38-44AD-B683-C3AE9A41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DD48-0EFE-4A0D-AF4A-3DFB5E99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1D9A-1A26-41F4-9DDB-A4F6BAC51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fullSizedImage" descr="smallpox600.jpg image by Beowulf716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19:27:09Z</dcterms:created>
  <dc:creator>Erik</dc:creator>
  <dc:description/>
  <dc:language>en-US</dc:language>
  <cp:lastModifiedBy>Erik</cp:lastModifiedBy>
  <dcterms:modified xsi:type="dcterms:W3CDTF">2009-09-27T19:27:28Z</dcterms:modified>
  <cp:revision>1</cp:revision>
  <dc:subject/>
  <dc:title>Slide 1</dc:title>
</cp:coreProperties>
</file>